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44E6-5F98-4524-BEDB-2794B92F66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4D36-8581-4EBC-8A23-4F693FF9EE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28B6-59ED-4689-B81B-04DB591B3D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0159-7B49-4B7F-A8C9-0C1ADDAB75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07B1-26E1-4FD8-8A51-1692531B3F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BDA8-063D-49F8-947B-7B4C0AC086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5454-32DA-4E71-825D-B24CCF7A1D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2252-FDBA-4566-B7F4-273842D287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66C4-2009-4352-9F28-0D0AADC61D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F858-432B-4BA3-9595-91B7EDA65F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FE2-5B56-42EF-AB65-569BA236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E11-6BC7-43E3-9179-2E2B1118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883-708E-44B9-80AB-6B660C40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F4C-8109-42B0-938D-77C4C64E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305-6174-45E6-A7DC-77D4D6D7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0E3-BB2C-4AB9-9134-30A32192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DFB-629F-44AC-8431-EBD949B5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0B2-377D-40E2-A6AF-465FA650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214-3772-45C0-BCBA-00283286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BA8-693D-453F-A5B7-7D8DB2CD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E83-7A01-41BE-A28F-87B401D3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E25-6E6F-4899-B91E-B969B94B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BB83-4F4C-4C1C-A11D-A5CA6132041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lcolmmacgregor.com/oaktrees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hyperlink" Target="http://www.bostocktree.on.ca/images/gmothlrv.jpg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cosystems and Ecological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t3.gstatic.com/images?q=tbn:ANd9GcQdREgUYiuXKOeczxiwRq2mF-0QW81IleBiwU7If68jECRvHhw&amp;t=1&amp;usg=__V9Xe7xngjl8YG0aEw5F9kAbc434="/>
          <p:cNvPicPr/>
          <p:nvPr/>
        </p:nvPicPr>
        <p:blipFill>
          <a:blip r:embed="rId1"/>
          <a:stretch/>
        </p:blipFill>
        <p:spPr>
          <a:xfrm>
            <a:off x="380880" y="3733920"/>
            <a:ext cx="3760920" cy="259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year5.skola.edu.mt/wp-content/uploads/2009/03/gray-wolves.jpg"/>
          <p:cNvPicPr/>
          <p:nvPr/>
        </p:nvPicPr>
        <p:blipFill>
          <a:blip r:embed="rId2"/>
          <a:stretch/>
        </p:blipFill>
        <p:spPr>
          <a:xfrm>
            <a:off x="4724280" y="3657600"/>
            <a:ext cx="37339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stone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species which has a large effect on its community or eco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ters are an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are humans…BIG TIME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s look at some more examples as hw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ch video on APES website and take notes o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5 categories of keystone spec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Provide an example of each and state why it is so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se Study: The Acorn Connec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oaktre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85800"/>
            <a:ext cx="2895480" cy="2698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Acorns"/>
          <p:cNvPicPr/>
          <p:nvPr/>
        </p:nvPicPr>
        <p:blipFill>
          <a:blip r:embed="rId3"/>
          <a:stretch/>
        </p:blipFill>
        <p:spPr>
          <a:xfrm>
            <a:off x="838080" y="4267080"/>
            <a:ext cx="2114640" cy="2163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Field mouse nibbling on seed scattered near our campsite dustbin"/>
          <p:cNvPicPr/>
          <p:nvPr/>
        </p:nvPicPr>
        <p:blipFill>
          <a:blip r:embed="rId4"/>
          <a:stretch/>
        </p:blipFill>
        <p:spPr>
          <a:xfrm>
            <a:off x="6324480" y="4495680"/>
            <a:ext cx="2266920" cy="192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gmothlrv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81280" y="1447920"/>
            <a:ext cx="2133720" cy="133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Figure 6"/>
          <p:cNvPicPr/>
          <p:nvPr/>
        </p:nvPicPr>
        <p:blipFill>
          <a:blip r:embed="rId7"/>
          <a:stretch/>
        </p:blipFill>
        <p:spPr>
          <a:xfrm>
            <a:off x="6248520" y="1371600"/>
            <a:ext cx="2514600" cy="153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http://www.ornithology.com/images/BabyBirds_Miller_061705.jpg"/>
          <p:cNvPicPr/>
          <p:nvPr/>
        </p:nvPicPr>
        <p:blipFill>
          <a:blip r:embed="rId8"/>
          <a:stretch/>
        </p:blipFill>
        <p:spPr>
          <a:xfrm>
            <a:off x="3108240" y="3962520"/>
            <a:ext cx="26161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orn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corn study show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Unit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ing thing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s affect these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co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to understand this concept for good natural resource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know how everything is interconn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know an ecosystem’s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s struct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: how is it changing over ti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ergy Flo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od webs and food cha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food_chain"/>
          <p:cNvPicPr/>
          <p:nvPr/>
        </p:nvPicPr>
        <p:blipFill>
          <a:blip r:embed="rId1"/>
          <a:stretch/>
        </p:blipFill>
        <p:spPr>
          <a:xfrm>
            <a:off x="533520" y="1219320"/>
            <a:ext cx="2971800" cy="533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trophic_levels_individuals"/>
          <p:cNvPicPr/>
          <p:nvPr/>
        </p:nvPicPr>
        <p:blipFill>
          <a:blip r:embed="rId2"/>
          <a:stretch/>
        </p:blipFill>
        <p:spPr>
          <a:xfrm>
            <a:off x="3876840" y="1219320"/>
            <a:ext cx="4886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FoodWebs"/>
          <p:cNvPicPr/>
          <p:nvPr/>
        </p:nvPicPr>
        <p:blipFill>
          <a:blip r:embed="rId1"/>
          <a:stretch/>
        </p:blipFill>
        <p:spPr>
          <a:xfrm>
            <a:off x="609480" y="1143000"/>
            <a:ext cx="8153640" cy="546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304920" y="304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lexity and Interconnected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8"/>
          <p:cNvSpPr/>
          <p:nvPr/>
        </p:nvSpPr>
        <p:spPr>
          <a:xfrm>
            <a:off x="1219320" y="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eystone Species: Ot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0:25:04Z</dcterms:created>
  <dc:creator>tosborne</dc:creator>
  <dc:description/>
  <dc:language>en-US</dc:language>
  <cp:lastModifiedBy>infosys</cp:lastModifiedBy>
  <dcterms:modified xsi:type="dcterms:W3CDTF">2015-10-01T22:00:04Z</dcterms:modified>
  <cp:revision>21</cp:revision>
  <dc:subject/>
  <dc:title>Chapter 6</dc:title>
</cp:coreProperties>
</file>